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DB7-8AA1-4A35-9573-737B72EA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D0F-4DDA-42D9-A384-5F5B7A24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E09-13D2-479C-A594-52C04B72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7B1-789C-4F2B-B23F-67465A97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C587-169B-4DC2-8B58-7D1BD915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E8AF-5DD3-4204-BD82-E0C92C44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C68E-C83F-425D-873B-1016ECC5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22D0-FFB3-452E-ADC3-09A2FC1F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B7A3-86A9-4E9B-B3BB-A4B9528C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A263-E35D-463C-B4F0-633E74BE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BABF-8B49-486B-9F42-923A12B6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E75-5738-410D-8990-0577EAAD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1257-8171-46B5-B49B-73340E88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BA2C-447A-440A-A209-869FAD26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E844-E4C4-4DD4-86FC-88A6B668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565F-CA64-4ADB-B98A-F324BCA0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F9A2-006A-42E2-8E2B-DFB7274F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4CF4-B167-4B52-8DA7-EDC4D1B7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718AA-7DBD-497A-86D7-322C751C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5B683-3645-429C-B7EC-366B997D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4330-A6E0-43E6-B2BD-DAED94F1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B6E8-CAD4-43BF-AC7B-EBE21833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F42-2374-4706-BD2C-B06857F7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B4B8-B97D-48A7-877A-C8386D38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84773-C9D3-4422-86A0-1A106E3B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BFEA-F1A4-41DB-82C9-4D97E2D0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B88A-F7A8-43E3-BB1C-26D9E34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E32C-6B33-45F8-AA1A-A339F031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5489-8F38-4FFD-A01D-59B54EF4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C721-1721-4D18-A20E-260D0F42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E5AD-1AC1-44EA-9814-A4FB46BE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6979-0042-444B-8B6B-ACE79AFD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596B2-33B4-4453-AEEF-CF0E32F3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02B-4269-497A-99BE-846F649F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6094-9AE8-48A5-943A-358E04C8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5760-8116-4347-98B9-44A74667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BCD9-F4AA-4560-B972-0683A62D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ABBC3-CC30-444D-A6F3-A4EDB100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BA20-50F8-4E50-915A-A16361E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40A8-358F-4079-AA86-AF0F641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0C69-18B1-42FB-8748-631AB7A8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B7674-09D8-429E-82FB-1A48B72D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BF64-8E27-4C40-BA2A-0DA124AE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638FC-7C9B-433F-BF6C-F086CC3E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8A7-8F32-470E-A61C-CA099389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9E0E7-0544-4300-860C-A34AFE6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B33BA-3A48-4792-91C6-BAE3BCED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B48E-A9F2-4873-A96E-C42B2BFC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F9692-AB8C-425A-BA31-515462C3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79673-B072-4555-8073-537A8036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89EB4-3327-4BA9-90AD-CAEEFE2E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FE33C-0198-4BEC-A8B6-90E8579E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479B-41AC-4401-B420-160607B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07DC0-2A48-4645-BE0E-58730378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0006-5523-4C62-B72C-F775B932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A08-0076-4CDC-9E78-D9908961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B701-C2E9-4EAA-ADA3-4F279D45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13FD-8356-4293-B3E4-4E8142A1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49982-B82B-41D6-955A-A70391D7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FC27B-6AB3-46B3-B7DC-7D841C7D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9E42-D395-4671-BD5E-9ECB1C33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8CB8-1BA0-44E5-B6E2-09E7AFD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2505A-438B-45FA-98CC-0F1A01EB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0C801-C3C8-47D0-A957-6E168F7A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D4FAD-3D4E-4422-9E51-86561D2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46F1A-B953-4140-8741-805352B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2A2-E4B7-4399-B1F6-384A2FED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DF952-5EDF-4195-898F-AF282CDD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7D329-98DE-43C1-9F05-EB276B49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61F58-A5E7-41CC-8893-B9884732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ED15C-D2A7-409F-AAE7-633130E7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40221-DB3A-4AA7-9FA7-4323900B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819FD-4F1F-43CC-9D5C-02BD31DC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33337-C249-4F14-9678-853E07CE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15481-8CA8-403A-815B-1AE65975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A77FA-69E4-4F02-8C16-054A2DA1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209CD-E5EE-4D74-A15B-C2F28E85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D44-7D15-4945-9678-F0639A1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703E1-0226-48FD-BD34-4055A96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2356D-38DF-4A34-992D-4530ED8C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EC264-FCB3-4F53-8A91-B16327CC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40C8-BB8E-4A63-AD32-45DFD9E9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A45C3-615C-4E8E-B20C-951F7E22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0FF6A-7F13-4668-B185-BBE16F52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1E1EE-23EA-484E-A1F0-FA0FAC3A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6760E-FBE0-4C00-9591-E5434F19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A9839-F74B-40E1-BAF6-57F698CB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4C29B-973B-4465-A33C-A1B3BBDD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E5C-C6BD-4758-B08D-CF75E6DF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31C48-87F2-492E-9C23-11D54C2D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5013A-C32E-4B10-87C3-A894CEF6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87CEE-8E6D-433C-A53E-0C0E0EA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E7E8A-8DCF-486A-BE2A-A82360D8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98399-BEBE-4BB5-AEEE-861BB03A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977A1-A59C-4463-95DF-B1E008B4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9D7F-D751-4090-AF2C-11A41E2C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6F10-1981-4126-B4B8-7929B051C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D432-DB4A-4246-B1EC-EEFB7D282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B70D-821A-4D6C-801A-F60CAB934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544F-6AFD-4FD4-A73C-BBA866817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C224-E7EA-4359-B1E3-04B191A6F1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6E9-8DED-4092-8E2F-C03B8E3540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9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49CF-5480-49D5-A0BE-5DE06BF407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5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A05-DDB9-476D-8068-C5799B1FF9E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SAVANNA!!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y: David Bell, Mark Coryell, and Jamie Berg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gyptian Mongoose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males take turns babysitting while in p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rsed for 6 mon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ly live up to 7-12 years (very ac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nivorous also eat fruit (if availab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t: rodents, fish, birds, reptiiles, amphibians, insects &amp; insect larvae (also eggs of these anima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t POISONOUS snak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le to run backwards, rollover, swim, &amp; stand on two hind le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gyptian Mongoose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yed on by birds, and large carniv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nefit enviroment by killing pest to humans like rats &amp; sna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endangered ( shy: protects the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nted because they eat human’s chicken &amp; eat their poult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rcaral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und in grassland in South and Central Africa &amp; Ind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d+body: 24-36 i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il: 9-12 i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er height: 15-20 i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ight: 28-42 pou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ped like a cat just big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xually mature at 12-15 months (male), 14-16 months (fema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 year-r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rcaral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station period 69-78 d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up to 16 yo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ttens weigh 10.5 o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 alone no in packs/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ly live up to 17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at n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nt small animals: rabbit and porcup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animals: sheep, young antelope and de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 is only predat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nted for fur and me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t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ckelberry tre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throughout Afric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tects termites with its roo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fers moist and rocky so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 to 80 feet tall and 16 feet wi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rmuda Gr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iginally found in Afric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turbances: grazing, flooding, fi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ts grow 47-59 inches deep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grow in poor so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fers moist and warm clima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oba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in Africa and Ind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w up to 25 meters lo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ve up to hundreds of ea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fless for 9 out of 12 month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t months: water is stored in trun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ark: cloth &amp; 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ves: condiments and medici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uit: “monkey bread” is ea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limate: temperature and season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savanna has both wet and dry seas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October violent thunderstorms, and strong winds occur signaling the start of the DRY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 the height of the season (January) fires occ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March violent thunderstorms and strong winds occur yet again heralding the start of the WET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verage temperature ranges anywhere from 68-86 degrees Fahrenhe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the Summer temperature ranges from 78-86 degrees Fahr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the Winter temperature ranges from 68-78 degrees Fahr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mperature rarely ever changes and when it does it is very gradual nothing drasti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December – February it rarely ever rains at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mate: 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rainfall of 76.2-101.6 cm (30-40 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rain as little as 15.26 cm (6 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s much as 25.4 cm (10 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imals in the savanna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rican wild d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: grasslands, savannas, &amp; open woodlands of eastern and southern Africa…DO NOT live in Jungle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, long body with muscular legs. (4 toes on each foo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Length: 75-100 cm (29-39 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up to be 61-78 cm (23-30 i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l is 30-90 cm (12-15 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: 18-36 cm (37-79 Lb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rican Wild Dog 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e &amp; females are same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st dog in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Wild Dogs breed from December – M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 Pregnant for 10 months can have anywhere from 2-20 puppies 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ppies stay in grass-lined burrow for 3-4 weeks, whole pack looks after puppies when out of bu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ults take turn babysitting puppies while others hu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ppies stop drinking mothers milk after 5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rican Wild Dog 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ure between 12-18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 will give birth every 12-14 months, they don’t breed until much older (age not giv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expected to live up to 1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ivores: eat medium sized gazelles, antel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unting they follow herd until one seper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eed without a killing b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in competition with hyenas, jackals and l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redator is the human 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gyptian Mongoo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st of all mongooses in Afr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: schrub thickets, rocky areas, small woodlands, &amp; forested areas within savan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fer to live in foresed areas near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amous for being snake kill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ight: 19-23 i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ighs:4-7 pou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il: 13-21 inch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5-40 tee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gyptian Mongoose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le &amp; Female sexually mature at 2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ly – August is mating season (mating lasts 5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1 weeks for gestation peri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hers have 2-4 yo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bies helpless for 6-8 days then able to follow m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rth: blind &amp; fur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en eyes at 6-8 d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h parents raise yo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3:19:08Z</dcterms:created>
  <dc:creator>xpstudent</dc:creator>
  <dc:description/>
  <dc:language>en-US</dc:language>
  <cp:lastModifiedBy>xpstudent</cp:lastModifiedBy>
  <dcterms:modified xsi:type="dcterms:W3CDTF">2010-10-28T13:32:29Z</dcterms:modified>
  <cp:revision>3</cp:revision>
  <dc:subject/>
  <dc:title>SAVANNA!! </dc:title>
</cp:coreProperties>
</file>